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4825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3600" y="399672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44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43964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360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44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96720"/>
            <a:ext cx="271476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63160"/>
            <a:ext cx="7804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99672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39640"/>
            <a:ext cx="411408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3600" y="3996720"/>
            <a:ext cx="8431200" cy="2334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28600">
              <a:spcBef>
                <a:spcPts val="601"/>
              </a:spcBef>
              <a:buClr>
                <a:srgbClr val="063de8"/>
              </a:buClr>
              <a:buSzPct val="64000"/>
              <a:buFont typeface="Monotype Sorts" charset="2"/>
              <a:buChar char="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4960" y="6585120"/>
            <a:ext cx="8264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Dr D. Greer, Queens University Belfast (des.greer@qub.ac.uk)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7680"/>
            <a:ext cx="9144000" cy="76320"/>
          </a:xfrm>
          <a:prstGeom prst="rect">
            <a:avLst/>
          </a:prstGeom>
          <a:gradFill rotWithShape="0">
            <a:gsLst>
              <a:gs pos="0">
                <a:srgbClr val="00003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9040" y="2293920"/>
            <a:ext cx="7804080" cy="1147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Software Engineering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8080" y="3900600"/>
            <a:ext cx="6426000" cy="976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5: The Unified Model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876920"/>
            <a:ext cx="8534520" cy="1447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 able to create use-case descrip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12240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 able to draw use-case diagr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Use-Case flow of Event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use-case identified, a use-case flow of events must be documented. This is a step by step description starting with the actor that initiated the use-case until the end of the ev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done in textual prose. Good practice:  use a standard template for the creation of the flow of events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first only the normal course of events are described, but as analysis progresses, more detail is added and alternative flows are ad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680" y="-360"/>
            <a:ext cx="896796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Use-Case Flow of Events for Create Diagram Use-Case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8240" y="1293840"/>
          <a:ext cx="10590480" cy="770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93840"/>
                    <a:ext cx="10590480" cy="77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680" y="-360"/>
            <a:ext cx="896796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Use-Case Flow of Events for Create New Rectangle Use-Case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1360" y="1951200"/>
          <a:ext cx="7846920" cy="77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951200"/>
                    <a:ext cx="7846920" cy="77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680" y="-360"/>
            <a:ext cx="896796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Use-Case Flow of Events for Create New Graphical Element Use-Case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5400" y="3008160"/>
          <a:ext cx="7847280" cy="770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3008160"/>
                    <a:ext cx="7847280" cy="77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3200400" y="3243240"/>
            <a:ext cx="428400" cy="185760"/>
            <a:chOff x="3200400" y="3243240"/>
            <a:chExt cx="428400" cy="185760"/>
          </a:xfrm>
        </p:grpSpPr>
        <p:sp>
          <p:nvSpPr>
            <p:cNvPr id="89" name=""/>
            <p:cNvSpPr/>
            <p:nvPr/>
          </p:nvSpPr>
          <p:spPr>
            <a:xfrm>
              <a:off x="3200400" y="327168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228840" y="324324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71960" y="1528920"/>
            <a:ext cx="428400" cy="185760"/>
            <a:chOff x="3171960" y="1528920"/>
            <a:chExt cx="428400" cy="185760"/>
          </a:xfrm>
        </p:grpSpPr>
        <p:sp>
          <p:nvSpPr>
            <p:cNvPr id="92" name=""/>
            <p:cNvSpPr/>
            <p:nvPr/>
          </p:nvSpPr>
          <p:spPr>
            <a:xfrm>
              <a:off x="3171960" y="155736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00400" y="152892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63600" y="1440000"/>
            <a:ext cx="84312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sn’t ellipse and line creation very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lnSpc>
                <a:spcPct val="100000"/>
              </a:lnSpc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identifying two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 – lets use a general version inst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029120" y="3657600"/>
            <a:ext cx="428400" cy="185760"/>
            <a:chOff x="4029120" y="3657600"/>
            <a:chExt cx="428400" cy="185760"/>
          </a:xfrm>
        </p:grpSpPr>
        <p:sp>
          <p:nvSpPr>
            <p:cNvPr id="96" name=""/>
            <p:cNvSpPr/>
            <p:nvPr/>
          </p:nvSpPr>
          <p:spPr>
            <a:xfrm>
              <a:off x="4029120" y="368604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057560" y="365760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00280" y="5100480"/>
            <a:ext cx="428400" cy="185760"/>
            <a:chOff x="2600280" y="5100480"/>
            <a:chExt cx="428400" cy="185760"/>
          </a:xfrm>
        </p:grpSpPr>
        <p:sp>
          <p:nvSpPr>
            <p:cNvPr id="99" name=""/>
            <p:cNvSpPr/>
            <p:nvPr/>
          </p:nvSpPr>
          <p:spPr>
            <a:xfrm>
              <a:off x="2600280" y="512892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8720" y="510048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629080" y="5900760"/>
            <a:ext cx="428400" cy="185760"/>
            <a:chOff x="2629080" y="5900760"/>
            <a:chExt cx="428400" cy="185760"/>
          </a:xfrm>
        </p:grpSpPr>
        <p:sp>
          <p:nvSpPr>
            <p:cNvPr id="102" name=""/>
            <p:cNvSpPr/>
            <p:nvPr/>
          </p:nvSpPr>
          <p:spPr>
            <a:xfrm>
              <a:off x="2629080" y="592920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657520" y="590076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00720" y="4500720"/>
            <a:ext cx="428400" cy="185760"/>
            <a:chOff x="4500720" y="4500720"/>
            <a:chExt cx="428400" cy="185760"/>
          </a:xfrm>
        </p:grpSpPr>
        <p:sp>
          <p:nvSpPr>
            <p:cNvPr id="105" name=""/>
            <p:cNvSpPr/>
            <p:nvPr/>
          </p:nvSpPr>
          <p:spPr>
            <a:xfrm>
              <a:off x="4500720" y="452916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529160" y="450072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14840" y="3029040"/>
            <a:ext cx="428400" cy="185760"/>
            <a:chOff x="3714840" y="3029040"/>
            <a:chExt cx="428400" cy="185760"/>
          </a:xfrm>
        </p:grpSpPr>
        <p:sp>
          <p:nvSpPr>
            <p:cNvPr id="108" name=""/>
            <p:cNvSpPr/>
            <p:nvPr/>
          </p:nvSpPr>
          <p:spPr>
            <a:xfrm>
              <a:off x="3714840" y="3057480"/>
              <a:ext cx="42840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743280" y="3029040"/>
              <a:ext cx="385920" cy="18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20813400">
            <a:off x="5000760" y="27432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Graphical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700000">
            <a:off x="4172040" y="2612520"/>
            <a:ext cx="1668240" cy="459000"/>
          </a:xfrm>
          <a:custGeom>
            <a:avLst/>
            <a:gdLst/>
            <a:ahLst/>
            <a:rect l="l" t="t" r="r" b="b"/>
            <a:pathLst>
              <a:path w="1051" h="289">
                <a:moveTo>
                  <a:pt x="0" y="64"/>
                </a:moveTo>
                <a:cubicBezTo>
                  <a:pt x="383" y="32"/>
                  <a:pt x="767" y="0"/>
                  <a:pt x="909" y="37"/>
                </a:cubicBezTo>
                <a:cubicBezTo>
                  <a:pt x="1051" y="74"/>
                  <a:pt x="864" y="252"/>
                  <a:pt x="855" y="28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813400">
            <a:off x="6114960" y="337176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mic Sans MS"/>
              </a:rPr>
              <a:t>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700000">
            <a:off x="4743000" y="3327120"/>
            <a:ext cx="1668600" cy="458640"/>
          </a:xfrm>
          <a:custGeom>
            <a:avLst/>
            <a:gdLst/>
            <a:ahLst/>
            <a:rect l="l" t="t" r="r" b="b"/>
            <a:pathLst>
              <a:path w="1051" h="289">
                <a:moveTo>
                  <a:pt x="0" y="64"/>
                </a:moveTo>
                <a:cubicBezTo>
                  <a:pt x="383" y="32"/>
                  <a:pt x="767" y="0"/>
                  <a:pt x="909" y="37"/>
                </a:cubicBezTo>
                <a:cubicBezTo>
                  <a:pt x="1051" y="74"/>
                  <a:pt x="864" y="252"/>
                  <a:pt x="855" y="28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680" y="-360"/>
            <a:ext cx="896796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Use-Case Flow of Events for Create New Text Element Use-Case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600" y="1440000"/>
            <a:ext cx="8431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different - but still has some common events as create graphica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85800" y="2281320"/>
            <a:ext cx="5529240" cy="2733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3600" y="4911840"/>
            <a:ext cx="84312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Element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Graphical Element and Create Text Elemen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alis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Creat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 Use Case – Select Element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9800" y="2131920"/>
          <a:ext cx="7846920" cy="770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131920"/>
                    <a:ext cx="7846920" cy="77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 Use Case – Delete Element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3600" y="1440000"/>
            <a:ext cx="8431200" cy="1466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user selects an item, then presses a delete button on the keyboard or too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a small bit of extra functionality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7600" y="2871720"/>
            <a:ext cx="6356160" cy="1228680"/>
            <a:chOff x="1047600" y="2871720"/>
            <a:chExt cx="6356160" cy="12286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047600" y="2871720"/>
              <a:ext cx="63561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3160" y="3243240"/>
              <a:ext cx="1985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63600" y="4311720"/>
            <a:ext cx="84312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ed arrow = UML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includes&gt;&gt; label indicat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ere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dependency I.e. that Delete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use case Selec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00360" y="3629160"/>
            <a:ext cx="75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 Use Case – Moving an Element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2795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an element has a lot of the functionality of Select Element but does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7560" y="3043080"/>
            <a:ext cx="5597640" cy="11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8000" y="4511520"/>
            <a:ext cx="843120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e use case – Select Element must contain an extension point indicating where the the Move Element use case takes over and a condition saying when it should be extended I.e. when the user moves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Full Use Case Diagra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MP1" descr=""/>
          <p:cNvPicPr/>
          <p:nvPr/>
        </p:nvPicPr>
        <p:blipFill>
          <a:blip r:embed="rId1"/>
          <a:srcRect l="0" t="0" r="4189" b="0"/>
          <a:stretch/>
        </p:blipFill>
        <p:spPr>
          <a:xfrm>
            <a:off x="846000" y="2011320"/>
            <a:ext cx="6208920" cy="438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53240" y="3610080"/>
            <a:ext cx="1380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Generalisation between actor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our diagram tool operates in a shared environment and only Administrators can delet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9160" y="2462040"/>
            <a:ext cx="43768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History of Unified Modelling Languag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spcBef>
                <a:spcPts val="788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blished in 1996 derived from three OO generation method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MT - Rumbaugh 19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ooch’ - Booch 1991, 199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bjectory - Jacobson 199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88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oals of UML as stated by the designer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model systems (not just software) using OO concep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establish explicit coupling to conceptual as well as executable artifa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address issues of scale inherent in complex sys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create a modeling language usable by humans and machi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43360" y="2657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614680"/>
            <a:ext cx="1729080" cy="65700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View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3600" y="1440000"/>
            <a:ext cx="8431200" cy="46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28960" y="155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55736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57600" y="1514520"/>
            <a:ext cx="1728720" cy="6573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00560" y="1542960"/>
            <a:ext cx="1728720" cy="6573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9160" y="2700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ment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657520"/>
            <a:ext cx="1728720" cy="657360"/>
          </a:xfrm>
          <a:prstGeom prst="rect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9920" y="2011320"/>
            <a:ext cx="1550160" cy="90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C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60" y="3411360"/>
            <a:ext cx="847404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noAutofit/>
          </a:bodyPr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 – systems external behaviour – of interest to end users, analysts,  and te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view – describes the logical structures that implement the functions in the use cases – e.g. classes, their data and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view describes the physical components in the system e.g. executable code, libraries,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View – deals with 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 View – deals with the organisation of  the physical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Main UML Diagrams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Times New Roman"/>
              </a:rPr>
              <a:t>Class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76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Times New Roman"/>
              </a:rPr>
              <a:t>Use Case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Times New Roman"/>
              </a:rPr>
              <a:t>State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teraction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llaboration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Times New Roman"/>
              </a:rPr>
              <a:t>Sequence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mponent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76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ployment Diagra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5588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2217600"/>
            <a:ext cx="0" cy="1989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02040" y="4265640"/>
            <a:ext cx="0" cy="611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54520" y="1523880"/>
            <a:ext cx="8395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1720" y="2784600"/>
            <a:ext cx="12463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28640" y="4724280"/>
            <a:ext cx="8395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Use-Case </a:t>
            </a:r>
            <a:r>
              <a:rPr b="0" lang="en-GB" sz="3600" spc="-1" strike="noStrike">
                <a:solidFill>
                  <a:srgbClr val="081d58"/>
                </a:solidFill>
                <a:latin typeface="Times New Roman"/>
              </a:rPr>
              <a:t>Modelling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2680" y="1375920"/>
            <a:ext cx="8177040" cy="41720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92000"/>
          </a:bodyPr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-case  models describe externally the visible behavior of a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view of the users of the system and the functions that the system must per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-cases are initiated by users or systems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ctor represents anything that needs to interact with the system to exchange information – it may be a role a user plays or another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or initiates system activity, a use case, for the purposes of completing some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external party initiates the input, it is considered an 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human users of the system, identify their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ions with extern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-case diagrams are used primarily during the requirements analysis stage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ine the complete functionality of a system from a user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y do not describ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: Diagram editor tool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“Practical Object Oriented Design with UML’– Mark Pries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create and edit drawings composed of lines, rectangles,  ellipses and 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 control the operation of the editor. Exactly one tool is active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2 kinds of tool: selection tools and creation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9240" indent="-45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selection tool active, the use can select drawing elements with the cu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87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one element can be selected and manipulated as if they wer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87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urrent selection is displayed visually by showing control points for the elements. Control points can be dragged to change the element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9240" indent="-453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creation tool becomes active, there is no curren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87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reation of an element it becomes the current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87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0000" indent="-226080">
              <a:lnSpc>
                <a:spcPct val="90000"/>
              </a:lnSpc>
              <a:spcBef>
                <a:spcPts val="349"/>
              </a:spcBef>
              <a:buClr>
                <a:srgbClr val="063de8"/>
              </a:buClr>
              <a:buSzPct val="64000"/>
              <a:buFont typeface="Monotype Sorts" charset="2"/>
              <a:buChar char="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ext creation tool changes the cursor to an I beam and the user can click this on the screen and start typing at that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0000" indent="-226080">
              <a:lnSpc>
                <a:spcPct val="90000"/>
              </a:lnSpc>
              <a:spcBef>
                <a:spcPts val="349"/>
              </a:spcBef>
              <a:buClr>
                <a:srgbClr val="063de8"/>
              </a:buClr>
              <a:buSzPct val="64000"/>
              <a:buFont typeface="Monotype Sorts" charset="2"/>
              <a:buChar char="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ext creation tool is no longer active once the user clicks outside the text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0000" indent="-226080">
              <a:lnSpc>
                <a:spcPct val="90000"/>
              </a:lnSpc>
              <a:spcBef>
                <a:spcPts val="349"/>
              </a:spcBef>
              <a:buClr>
                <a:srgbClr val="063de8"/>
              </a:buClr>
              <a:buSzPct val="64000"/>
              <a:buFont typeface="Monotype Sorts" charset="2"/>
              <a:buChar char="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ntrol points for a text element are its 4 corners – dragging this changes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Cre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es, rectangles elli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ese cases the cursor becomes a cross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useDown starts to create the object, Mouseup complete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useDown sets the start point of the element, Mouseup the end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e – start point where MouseDown, end point at MouseUp. These points are also the contro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 – top left point where MouseDown, bottom right point at MouseUp. These points and the other corners become the contro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lipse – draws an ellipse to fit inside the rectangle drawn as with the rectangle tool. The rectangle does not appear, but its corners form control points for the el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Use Case Diagram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1520" y="1609560"/>
            <a:ext cx="5400720" cy="4945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35600" y="1439640"/>
            <a:ext cx="3859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Case diagram summarises all the use cases and actors in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necessary, scenarios are developed for the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-cases are described only in terms of the services they offer to external acto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ternal details of precisely how this external behavior is to be achieved is represented using logical models e.g Class Diagra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not directly object-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63160"/>
            <a:ext cx="7804440" cy="717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Example Use case</a:t>
            </a:r>
            <a:endParaRPr b="0" lang="en-US" sz="3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3600" y="1439640"/>
            <a:ext cx="8431200" cy="489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New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suppose the editor gives the user a workspace within which one diagram can be displayed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reation of a new diagram this workspace is empty (any existing diagrams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75000"/>
              <a:buFont typeface="Wingdings" charset="2"/>
              <a:buChar char="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an choose which diagram to view form those that are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1:29:05Z</dcterms:created>
  <dc:creator>dgreer</dc:creator>
  <dc:description/>
  <cp:keywords>Software Engineering</cp:keywords>
  <dc:language>en-US</dc:language>
  <cp:lastModifiedBy>Computer Science</cp:lastModifiedBy>
  <cp:lastPrinted>2001-02-23T14:59:30Z</cp:lastPrinted>
  <dcterms:modified xsi:type="dcterms:W3CDTF">2002-10-29T10:18:33Z</dcterms:modified>
  <cp:revision>30</cp:revision>
  <dc:subject>Software Engineering</dc:subject>
  <dc:title>Chapter 4 The Unified Modelling Language</dc:title>
</cp:coreProperties>
</file>