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4825" cy="9629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843120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3600" y="3996720"/>
            <a:ext cx="843120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411408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0" y="1439640"/>
            <a:ext cx="411408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3600" y="3996720"/>
            <a:ext cx="411408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600" y="3996720"/>
            <a:ext cx="411408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271476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440" y="1439640"/>
            <a:ext cx="271476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439640"/>
            <a:ext cx="271476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3600" y="3996720"/>
            <a:ext cx="271476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440" y="3996720"/>
            <a:ext cx="271476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996720"/>
            <a:ext cx="271476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3600" y="1439640"/>
            <a:ext cx="84312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8431200" cy="489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4114080" cy="489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600" y="1439640"/>
            <a:ext cx="4114080" cy="489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263160"/>
            <a:ext cx="7804440" cy="33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411408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600" y="1439640"/>
            <a:ext cx="4114080" cy="489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3600" y="3996720"/>
            <a:ext cx="411408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4114080" cy="489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600" y="1439640"/>
            <a:ext cx="411408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0" y="3996720"/>
            <a:ext cx="411408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411408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600" y="1439640"/>
            <a:ext cx="411408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3600" y="3996720"/>
            <a:ext cx="843120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3600" y="1439640"/>
            <a:ext cx="8431200" cy="489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82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28600">
              <a:spcBef>
                <a:spcPts val="601"/>
              </a:spcBef>
              <a:buClr>
                <a:srgbClr val="063de8"/>
              </a:buClr>
              <a:buSzPct val="64000"/>
              <a:buFont typeface="Monotype Sorts" charset="2"/>
              <a:buChar char="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1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1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1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76840"/>
            <a:ext cx="89517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000" spc="-1" strike="noStrike">
                <a:solidFill>
                  <a:srgbClr val="081d58"/>
                </a:solidFill>
                <a:latin typeface="Times New Roman"/>
              </a:rPr>
              <a:t>Dr D. Greer, Queens University Belfast (Email:des.greer@qub.ac.uk  URL:  www.cs.qub.ac.uk/~Des.Greer/csc712/</a:t>
            </a:r>
            <a:r>
              <a:rPr b="0" lang="en-GB" sz="10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81d58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7680"/>
            <a:ext cx="9144000" cy="76320"/>
          </a:xfrm>
          <a:prstGeom prst="rect">
            <a:avLst/>
          </a:prstGeom>
          <a:gradFill rotWithShape="0">
            <a:gsLst>
              <a:gs pos="0">
                <a:srgbClr val="000035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9040" y="2293920"/>
            <a:ext cx="7804080" cy="11476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Software Engineering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900600"/>
            <a:ext cx="7772400" cy="17589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7: The Unified Modell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Aspects (State Diagrams &amp; Sequence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876920"/>
            <a:ext cx="8534520" cy="1447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12240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e able to model the dynamic nature of a sys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12240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e able to draw state diagra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12240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e able to draw sequence diagra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12240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1717560"/>
            <a:ext cx="1143000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ystems have a static and dynamic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tic structure can be described using class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haviour describes how the elements within the structure interact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te diagram describes the behaviour of and the internal states within a class, focusing on how objects over time change their states, depending on events that occur, the actions and when transitions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Sequence Diagrams - essentials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8431200" cy="489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Diagrams illustrate how objects (and actors) interact with each other - used to describe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communicate 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s are communications between objects that convey information with the expectation that something will ha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diagrams have 2 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along the horizontal 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line (time) down the vertical 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s represented by ar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530360" y="4876920"/>
            <a:ext cx="2829960" cy="1701360"/>
            <a:chOff x="1530360" y="4876920"/>
            <a:chExt cx="2829960" cy="1701360"/>
          </a:xfrm>
        </p:grpSpPr>
        <p:grpSp>
          <p:nvGrpSpPr>
            <p:cNvPr id="128" name=""/>
            <p:cNvGrpSpPr/>
            <p:nvPr/>
          </p:nvGrpSpPr>
          <p:grpSpPr>
            <a:xfrm>
              <a:off x="1530360" y="4876920"/>
              <a:ext cx="2829960" cy="1701360"/>
              <a:chOff x="1530360" y="4876920"/>
              <a:chExt cx="2829960" cy="1701360"/>
            </a:xfrm>
          </p:grpSpPr>
          <p:sp>
            <p:nvSpPr>
              <p:cNvPr id="129" name=""/>
              <p:cNvSpPr/>
              <p:nvPr/>
            </p:nvSpPr>
            <p:spPr>
              <a:xfrm>
                <a:off x="2524680" y="5258880"/>
                <a:ext cx="1835640" cy="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60000" y="4876920"/>
                <a:ext cx="9176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bjec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524680" y="5258880"/>
                <a:ext cx="0" cy="122328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530360" y="5794200"/>
                <a:ext cx="917640" cy="78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080" bIns="4608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life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spcBef>
                    <a:spcPts val="1125"/>
                  </a:spcBef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ti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2907360" y="5735520"/>
              <a:ext cx="459000" cy="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54360" y="5429520"/>
              <a:ext cx="1224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e.g. Ordering system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8431200" cy="489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 Class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48200" y="2416320"/>
            <a:ext cx="0" cy="269856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579640" y="2036880"/>
            <a:ext cx="2821320" cy="2043000"/>
            <a:chOff x="5579640" y="2036880"/>
            <a:chExt cx="2821320" cy="2043000"/>
          </a:xfrm>
        </p:grpSpPr>
        <p:sp>
          <p:nvSpPr>
            <p:cNvPr id="139" name=""/>
            <p:cNvSpPr/>
            <p:nvPr/>
          </p:nvSpPr>
          <p:spPr>
            <a:xfrm>
              <a:off x="6572160" y="2036880"/>
              <a:ext cx="1828800" cy="204300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72160" y="2036880"/>
              <a:ext cx="1828800" cy="36828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Order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72160" y="2416320"/>
              <a:ext cx="1828800" cy="91692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temnumber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quantity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6260000">
              <a:off x="5493600" y="3002400"/>
              <a:ext cx="430200" cy="25092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34160" y="2416320"/>
              <a:ext cx="738000" cy="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834160" y="4481640"/>
            <a:ext cx="2566800" cy="2043000"/>
            <a:chOff x="5834160" y="4481640"/>
            <a:chExt cx="2566800" cy="2043000"/>
          </a:xfrm>
        </p:grpSpPr>
        <p:sp>
          <p:nvSpPr>
            <p:cNvPr id="145" name=""/>
            <p:cNvSpPr/>
            <p:nvPr/>
          </p:nvSpPr>
          <p:spPr>
            <a:xfrm>
              <a:off x="6572160" y="4481640"/>
              <a:ext cx="1828800" cy="204300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72160" y="4481640"/>
              <a:ext cx="1828800" cy="36828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elivery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72160" y="4861080"/>
              <a:ext cx="1828800" cy="91692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eliveryadress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quantity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4160" y="5114880"/>
              <a:ext cx="738000" cy="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85800" y="2036880"/>
            <a:ext cx="1828800" cy="2043000"/>
            <a:chOff x="685800" y="2036880"/>
            <a:chExt cx="1828800" cy="2043000"/>
          </a:xfrm>
        </p:grpSpPr>
        <p:sp>
          <p:nvSpPr>
            <p:cNvPr id="150" name=""/>
            <p:cNvSpPr/>
            <p:nvPr/>
          </p:nvSpPr>
          <p:spPr>
            <a:xfrm>
              <a:off x="685800" y="2036880"/>
              <a:ext cx="1828800" cy="204300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" y="2036880"/>
              <a:ext cx="1828800" cy="36828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800" y="2416320"/>
              <a:ext cx="1828800" cy="91692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orderNumber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5800" y="33433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epar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514600" y="2036880"/>
            <a:ext cx="3071880" cy="2224800"/>
            <a:chOff x="2514600" y="2036880"/>
            <a:chExt cx="3071880" cy="2224800"/>
          </a:xfrm>
        </p:grpSpPr>
        <p:sp>
          <p:nvSpPr>
            <p:cNvPr id="155" name=""/>
            <p:cNvSpPr/>
            <p:nvPr/>
          </p:nvSpPr>
          <p:spPr>
            <a:xfrm>
              <a:off x="3757680" y="2036880"/>
              <a:ext cx="1828800" cy="204300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57680" y="2036880"/>
              <a:ext cx="1828800" cy="36828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OrderL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57680" y="2416320"/>
              <a:ext cx="1828800" cy="91692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temnumber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quantity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14600" y="2914560"/>
              <a:ext cx="299880" cy="200160"/>
            </a:xfrm>
            <a:prstGeom prst="diamond">
              <a:avLst/>
            </a:prstGeom>
            <a:noFill/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14480" y="3014640"/>
              <a:ext cx="943200" cy="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57680" y="3344760"/>
              <a:ext cx="1825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heck(): boolean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mov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85800" y="4079880"/>
            <a:ext cx="3314880" cy="2444760"/>
            <a:chOff x="685800" y="4079880"/>
            <a:chExt cx="3314880" cy="2444760"/>
          </a:xfrm>
        </p:grpSpPr>
        <p:grpSp>
          <p:nvGrpSpPr>
            <p:cNvPr id="162" name=""/>
            <p:cNvGrpSpPr/>
            <p:nvPr/>
          </p:nvGrpSpPr>
          <p:grpSpPr>
            <a:xfrm>
              <a:off x="685800" y="4079880"/>
              <a:ext cx="3071520" cy="2444760"/>
              <a:chOff x="685800" y="4079880"/>
              <a:chExt cx="3071520" cy="244476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685800" y="4292640"/>
                <a:ext cx="2128680" cy="2232000"/>
                <a:chOff x="685800" y="4292640"/>
                <a:chExt cx="2128680" cy="22320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685800" y="4292640"/>
                  <a:ext cx="1828800" cy="2232000"/>
                </a:xfrm>
                <a:prstGeom prst="rect">
                  <a:avLst/>
                </a:prstGeom>
                <a:noFill/>
                <a:ln w="1260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85800" y="4292640"/>
                  <a:ext cx="1828800" cy="368280"/>
                </a:xfrm>
                <a:prstGeom prst="rect">
                  <a:avLst/>
                </a:prstGeom>
                <a:noFill/>
                <a:ln w="1260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</a:rPr>
                    <a:t>StockIte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85800" y="4672080"/>
                  <a:ext cx="1828800" cy="1191240"/>
                </a:xfrm>
                <a:prstGeom prst="rect">
                  <a:avLst/>
                </a:prstGeom>
                <a:noFill/>
                <a:ln w="1260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</a:rPr>
                    <a:t>orderNumber</a:t>
                  </a:r>
                  <a:br>
                    <a:rPr sz="1800"/>
                  </a:b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</a:rPr>
                    <a:t>minQuantity</a:t>
                  </a:r>
                  <a:br>
                    <a:rPr sz="1800"/>
                  </a:b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</a:rPr>
                    <a:t>date</a:t>
                  </a:r>
                  <a:br>
                    <a:rPr sz="1800"/>
                  </a:b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</a:rPr>
                    <a:t>etc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85800" y="5943600"/>
                  <a:ext cx="212868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needsToReorder(): boole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 flipH="1">
                <a:off x="2514240" y="4079880"/>
                <a:ext cx="1243080" cy="78120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2814480" y="4861080"/>
              <a:ext cx="118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_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Sequence diagram example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995400" y="2141640"/>
            <a:ext cx="1835280" cy="382320"/>
            <a:chOff x="995400" y="2141640"/>
            <a:chExt cx="1835280" cy="382320"/>
          </a:xfrm>
        </p:grpSpPr>
        <p:sp>
          <p:nvSpPr>
            <p:cNvPr id="172" name=""/>
            <p:cNvSpPr/>
            <p:nvPr/>
          </p:nvSpPr>
          <p:spPr>
            <a:xfrm>
              <a:off x="995400" y="2523960"/>
              <a:ext cx="1835280" cy="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78080" y="2141640"/>
              <a:ext cx="1224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epar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830680" y="2371680"/>
            <a:ext cx="1225440" cy="459000"/>
            <a:chOff x="2830680" y="2371680"/>
            <a:chExt cx="1225440" cy="459000"/>
          </a:xfrm>
        </p:grpSpPr>
        <p:sp>
          <p:nvSpPr>
            <p:cNvPr id="175" name=""/>
            <p:cNvSpPr/>
            <p:nvPr/>
          </p:nvSpPr>
          <p:spPr>
            <a:xfrm>
              <a:off x="2830680" y="2830680"/>
              <a:ext cx="1225440" cy="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30680" y="2371680"/>
              <a:ext cx="122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* prepar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056120" y="2676600"/>
            <a:ext cx="1834920" cy="458640"/>
            <a:chOff x="4056120" y="2676600"/>
            <a:chExt cx="1834920" cy="458640"/>
          </a:xfrm>
        </p:grpSpPr>
        <p:sp>
          <p:nvSpPr>
            <p:cNvPr id="178" name=""/>
            <p:cNvSpPr/>
            <p:nvPr/>
          </p:nvSpPr>
          <p:spPr>
            <a:xfrm>
              <a:off x="4056120" y="3135240"/>
              <a:ext cx="1834920" cy="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61040" y="2676600"/>
              <a:ext cx="122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heck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056120" y="3289320"/>
            <a:ext cx="1834920" cy="640440"/>
            <a:chOff x="4056120" y="3289320"/>
            <a:chExt cx="1834920" cy="640440"/>
          </a:xfrm>
        </p:grpSpPr>
        <p:sp>
          <p:nvSpPr>
            <p:cNvPr id="181" name=""/>
            <p:cNvSpPr/>
            <p:nvPr/>
          </p:nvSpPr>
          <p:spPr>
            <a:xfrm>
              <a:off x="4056120" y="3900600"/>
              <a:ext cx="1834920" cy="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56120" y="3289320"/>
              <a:ext cx="17589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check=“true”] remov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891040" y="3838680"/>
            <a:ext cx="2602080" cy="963000"/>
            <a:chOff x="5891040" y="3838680"/>
            <a:chExt cx="2602080" cy="963000"/>
          </a:xfrm>
        </p:grpSpPr>
        <p:sp>
          <p:nvSpPr>
            <p:cNvPr id="184" name=""/>
            <p:cNvSpPr/>
            <p:nvPr/>
          </p:nvSpPr>
          <p:spPr>
            <a:xfrm>
              <a:off x="5891040" y="4130640"/>
              <a:ext cx="306720" cy="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97760" y="4130640"/>
              <a:ext cx="0" cy="30492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91040" y="4435560"/>
              <a:ext cx="306720" cy="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91040" y="3838680"/>
              <a:ext cx="1874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needsToReorder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91040" y="4435560"/>
              <a:ext cx="2602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[needsToReorder=“true”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891040" y="5124600"/>
            <a:ext cx="460440" cy="0"/>
          </a:xfrm>
          <a:prstGeom prst="line">
            <a:avLst/>
          </a:prstGeom>
          <a:ln w="1260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15080" y="4818240"/>
            <a:ext cx="612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1480" y="4894200"/>
            <a:ext cx="1530360" cy="64044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AReorder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30040" y="1530360"/>
            <a:ext cx="8799840" cy="5124600"/>
            <a:chOff x="230040" y="1530360"/>
            <a:chExt cx="8799840" cy="5124600"/>
          </a:xfrm>
        </p:grpSpPr>
        <p:sp>
          <p:nvSpPr>
            <p:cNvPr id="193" name=""/>
            <p:cNvSpPr/>
            <p:nvPr/>
          </p:nvSpPr>
          <p:spPr>
            <a:xfrm>
              <a:off x="7499520" y="5735520"/>
              <a:ext cx="1530360" cy="640440"/>
            </a:xfrm>
            <a:prstGeom prst="rect">
              <a:avLst/>
            </a:prstGeom>
            <a:noFill/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Delivery 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30040" y="1530360"/>
              <a:ext cx="8034480" cy="5124600"/>
              <a:chOff x="230040" y="1530360"/>
              <a:chExt cx="8034480" cy="512460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230040" y="1530360"/>
                <a:ext cx="6350040" cy="640440"/>
                <a:chOff x="230040" y="1530360"/>
                <a:chExt cx="6350040" cy="6404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30040" y="1530360"/>
                  <a:ext cx="1683000" cy="640440"/>
                </a:xfrm>
                <a:prstGeom prst="rect">
                  <a:avLst/>
                </a:prstGeom>
                <a:noFill/>
                <a:ln w="12600">
                  <a:solidFill>
                    <a:srgbClr val="063d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7640"/>
                      <a:tab algn="l" pos="1835280"/>
                      <a:tab algn="l" pos="2752560"/>
                      <a:tab algn="l" pos="3670200"/>
                      <a:tab algn="l" pos="4587840"/>
                      <a:tab algn="l" pos="5505480"/>
                      <a:tab algn="l" pos="6423120"/>
                      <a:tab algn="l" pos="7340760"/>
                      <a:tab algn="l" pos="8258040"/>
                      <a:tab algn="l" pos="9175680"/>
                      <a:tab algn="l" pos="10093320"/>
                    </a:tabLst>
                  </a:pPr>
                  <a:r>
                    <a:rPr b="0" lang="en-GB" sz="18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anOrder Entry windo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065320" y="1530360"/>
                  <a:ext cx="1147680" cy="366120"/>
                </a:xfrm>
                <a:prstGeom prst="rect">
                  <a:avLst/>
                </a:prstGeom>
                <a:noFill/>
                <a:ln w="12600">
                  <a:solidFill>
                    <a:srgbClr val="063d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7640"/>
                      <a:tab algn="l" pos="1835280"/>
                      <a:tab algn="l" pos="2752560"/>
                      <a:tab algn="l" pos="3670200"/>
                      <a:tab algn="l" pos="4587840"/>
                      <a:tab algn="l" pos="5505480"/>
                      <a:tab algn="l" pos="6423120"/>
                      <a:tab algn="l" pos="7340760"/>
                      <a:tab algn="l" pos="8258040"/>
                      <a:tab algn="l" pos="9175680"/>
                      <a:tab algn="l" pos="10093320"/>
                    </a:tabLst>
                  </a:pPr>
                  <a:r>
                    <a:rPr b="0" lang="en-GB" sz="18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anOrd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367080" y="1530360"/>
                  <a:ext cx="1530360" cy="366120"/>
                </a:xfrm>
                <a:prstGeom prst="rect">
                  <a:avLst/>
                </a:prstGeom>
                <a:noFill/>
                <a:ln w="12600">
                  <a:solidFill>
                    <a:srgbClr val="063d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7640"/>
                      <a:tab algn="l" pos="1835280"/>
                      <a:tab algn="l" pos="2752560"/>
                      <a:tab algn="l" pos="3670200"/>
                      <a:tab algn="l" pos="4587840"/>
                      <a:tab algn="l" pos="5505480"/>
                      <a:tab algn="l" pos="6423120"/>
                      <a:tab algn="l" pos="7340760"/>
                      <a:tab algn="l" pos="8258040"/>
                      <a:tab algn="l" pos="9175680"/>
                      <a:tab algn="l" pos="10093320"/>
                    </a:tabLst>
                  </a:pPr>
                  <a:r>
                    <a:rPr b="0" lang="en-GB" sz="18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anOrder Lin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049720" y="1530360"/>
                  <a:ext cx="1530360" cy="366120"/>
                </a:xfrm>
                <a:prstGeom prst="rect">
                  <a:avLst/>
                </a:prstGeom>
                <a:noFill/>
                <a:ln w="12600">
                  <a:solidFill>
                    <a:srgbClr val="063d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7640"/>
                      <a:tab algn="l" pos="1835280"/>
                      <a:tab algn="l" pos="2752560"/>
                      <a:tab algn="l" pos="3670200"/>
                      <a:tab algn="l" pos="4587840"/>
                      <a:tab algn="l" pos="5505480"/>
                      <a:tab algn="l" pos="6423120"/>
                      <a:tab algn="l" pos="7340760"/>
                      <a:tab algn="l" pos="8258040"/>
                      <a:tab algn="l" pos="9175680"/>
                      <a:tab algn="l" pos="10093320"/>
                    </a:tabLst>
                  </a:pPr>
                  <a:r>
                    <a:rPr b="0" lang="en-GB" sz="18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aStock Ite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995400" y="2448000"/>
                <a:ext cx="0" cy="397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830680" y="2448000"/>
                <a:ext cx="0" cy="397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056120" y="2448000"/>
                <a:ext cx="0" cy="397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891040" y="2448000"/>
                <a:ext cx="0" cy="397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962760" y="5583240"/>
                <a:ext cx="0" cy="9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264520" y="6424560"/>
                <a:ext cx="0" cy="23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4056120" y="5627520"/>
            <a:ext cx="3443400" cy="644760"/>
            <a:chOff x="4056120" y="5627520"/>
            <a:chExt cx="3443400" cy="644760"/>
          </a:xfrm>
        </p:grpSpPr>
        <p:sp>
          <p:nvSpPr>
            <p:cNvPr id="207" name=""/>
            <p:cNvSpPr/>
            <p:nvPr/>
          </p:nvSpPr>
          <p:spPr>
            <a:xfrm>
              <a:off x="4056120" y="6272280"/>
              <a:ext cx="3443400" cy="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56120" y="5627520"/>
              <a:ext cx="17589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check=“true”] 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Sequence diagram example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841320" y="2330280"/>
            <a:ext cx="5738760" cy="613080"/>
            <a:chOff x="841320" y="2330280"/>
            <a:chExt cx="5738760" cy="613080"/>
          </a:xfrm>
        </p:grpSpPr>
        <p:sp>
          <p:nvSpPr>
            <p:cNvPr id="211" name=""/>
            <p:cNvSpPr/>
            <p:nvPr/>
          </p:nvSpPr>
          <p:spPr>
            <a:xfrm>
              <a:off x="841320" y="2943360"/>
              <a:ext cx="1836720" cy="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24000" y="2560680"/>
              <a:ext cx="1224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epar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08400" y="2330280"/>
              <a:ext cx="2371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Arguments go in 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682640" y="2330280"/>
              <a:ext cx="1913040" cy="306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065320" y="2560680"/>
              <a:ext cx="2067120" cy="230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841320" y="3921120"/>
            <a:ext cx="5738760" cy="1159200"/>
            <a:chOff x="841320" y="3921120"/>
            <a:chExt cx="5738760" cy="1159200"/>
          </a:xfrm>
        </p:grpSpPr>
        <p:sp>
          <p:nvSpPr>
            <p:cNvPr id="217" name=""/>
            <p:cNvSpPr/>
            <p:nvPr/>
          </p:nvSpPr>
          <p:spPr>
            <a:xfrm>
              <a:off x="841320" y="3921120"/>
              <a:ext cx="0" cy="1071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41320" y="4379760"/>
              <a:ext cx="306360" cy="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7680" y="4379760"/>
              <a:ext cx="0" cy="30672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41320" y="4686480"/>
              <a:ext cx="306360" cy="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41320" y="4089240"/>
              <a:ext cx="1874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needsToReorder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08400" y="4165560"/>
              <a:ext cx="237168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Self Delegation - an object sends a message to itsel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841320" y="5160960"/>
            <a:ext cx="5738760" cy="1067040"/>
            <a:chOff x="841320" y="5160960"/>
            <a:chExt cx="5738760" cy="1067040"/>
          </a:xfrm>
        </p:grpSpPr>
        <p:sp>
          <p:nvSpPr>
            <p:cNvPr id="224" name=""/>
            <p:cNvSpPr/>
            <p:nvPr/>
          </p:nvSpPr>
          <p:spPr>
            <a:xfrm>
              <a:off x="841320" y="5772240"/>
              <a:ext cx="1836720" cy="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1320" y="5160960"/>
              <a:ext cx="1760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check=“true”] remov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08400" y="5313240"/>
              <a:ext cx="237168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A conditional message (only sent if condition is tru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41320" y="3095640"/>
            <a:ext cx="6121440" cy="716760"/>
            <a:chOff x="841320" y="3095640"/>
            <a:chExt cx="6121440" cy="716760"/>
          </a:xfrm>
        </p:grpSpPr>
        <p:sp>
          <p:nvSpPr>
            <p:cNvPr id="228" name=""/>
            <p:cNvSpPr/>
            <p:nvPr/>
          </p:nvSpPr>
          <p:spPr>
            <a:xfrm>
              <a:off x="841320" y="3554280"/>
              <a:ext cx="1224000" cy="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1320" y="3095640"/>
              <a:ext cx="1224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* prepar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08400" y="3171960"/>
              <a:ext cx="27543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Iteration - sent many times to multiple receiver obje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841320" y="1530360"/>
            <a:ext cx="7656480" cy="640440"/>
            <a:chOff x="841320" y="1530360"/>
            <a:chExt cx="7656480" cy="640440"/>
          </a:xfrm>
        </p:grpSpPr>
        <p:sp>
          <p:nvSpPr>
            <p:cNvPr id="232" name=""/>
            <p:cNvSpPr/>
            <p:nvPr/>
          </p:nvSpPr>
          <p:spPr>
            <a:xfrm>
              <a:off x="841320" y="1530360"/>
              <a:ext cx="1147680" cy="366120"/>
            </a:xfrm>
            <a:prstGeom prst="rect">
              <a:avLst/>
            </a:prstGeom>
            <a:noFill/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n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08400" y="1530360"/>
              <a:ext cx="27543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Object - we may also state this with its class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37280" y="1530360"/>
              <a:ext cx="1460520" cy="640440"/>
            </a:xfrm>
            <a:prstGeom prst="rect">
              <a:avLst/>
            </a:prstGeom>
            <a:noFill/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nOrder: 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Sequence Diagrams - another example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1566000"/>
            <a:ext cx="1405080" cy="36828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940040"/>
            <a:ext cx="1405080" cy="81756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2760840"/>
            <a:ext cx="1405080" cy="30708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nt(filena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38360" y="1566000"/>
            <a:ext cx="1576440" cy="36828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int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38360" y="1945800"/>
            <a:ext cx="1576440" cy="33732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(): 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38360" y="2294280"/>
            <a:ext cx="1576440" cy="30708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nt(fi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38600" y="1566000"/>
            <a:ext cx="1405080" cy="36828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38600" y="1940040"/>
            <a:ext cx="1405080" cy="81756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38600" y="2760840"/>
            <a:ext cx="1405080" cy="30708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nt(fi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38600" y="4309200"/>
            <a:ext cx="1405080" cy="36828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38600" y="4683240"/>
            <a:ext cx="1405080" cy="81756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38600" y="5504040"/>
            <a:ext cx="1405080" cy="30708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e(fi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2133720"/>
            <a:ext cx="762120" cy="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2111400"/>
            <a:ext cx="523800" cy="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14800" y="2606760"/>
            <a:ext cx="523800" cy="169704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2362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14800" y="1219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48320" y="3429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Sequence Diagrams - another example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38360" y="1530360"/>
            <a:ext cx="1417680" cy="64044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aComputer: 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38440" y="1531800"/>
            <a:ext cx="1530360" cy="64044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aPrint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nt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29080" y="1531800"/>
            <a:ext cx="1157400" cy="64044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aPrint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51240" y="2457360"/>
            <a:ext cx="0" cy="3976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11640" y="2448000"/>
            <a:ext cx="0" cy="3976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76920" y="2457360"/>
            <a:ext cx="0" cy="3976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51240" y="3689280"/>
            <a:ext cx="1760400" cy="0"/>
          </a:xfrm>
          <a:prstGeom prst="line">
            <a:avLst/>
          </a:prstGeom>
          <a:ln w="1260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24120" y="3206880"/>
            <a:ext cx="122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(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11640" y="4356000"/>
            <a:ext cx="1549440" cy="0"/>
          </a:xfrm>
          <a:prstGeom prst="line">
            <a:avLst/>
          </a:prstGeom>
          <a:ln w="1260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2720" y="1452600"/>
            <a:ext cx="228600" cy="230040"/>
          </a:xfrm>
          <a:prstGeom prst="ellipse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22160" y="1682640"/>
            <a:ext cx="0" cy="22860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2720" y="1716120"/>
            <a:ext cx="228600" cy="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12720" y="1909800"/>
            <a:ext cx="109440" cy="23184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2160" y="1911240"/>
            <a:ext cx="119160" cy="23040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2185920"/>
            <a:ext cx="1663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aUser: 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41320" y="2830680"/>
            <a:ext cx="0" cy="370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841320" y="2563920"/>
            <a:ext cx="2214720" cy="640440"/>
            <a:chOff x="841320" y="2563920"/>
            <a:chExt cx="2214720" cy="640440"/>
          </a:xfrm>
        </p:grpSpPr>
        <p:sp>
          <p:nvSpPr>
            <p:cNvPr id="272" name=""/>
            <p:cNvSpPr/>
            <p:nvPr/>
          </p:nvSpPr>
          <p:spPr>
            <a:xfrm>
              <a:off x="1154160" y="2563920"/>
              <a:ext cx="19018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pPr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filena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1320" y="3156120"/>
              <a:ext cx="1478160" cy="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7102440" y="1531800"/>
            <a:ext cx="1082880" cy="64044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aQue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91320" y="2448000"/>
            <a:ext cx="0" cy="3976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84800" y="3575160"/>
            <a:ext cx="1392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printer free] print(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211640" y="4643280"/>
            <a:ext cx="3379680" cy="657360"/>
            <a:chOff x="4211640" y="4643280"/>
            <a:chExt cx="3379680" cy="657360"/>
          </a:xfrm>
        </p:grpSpPr>
        <p:sp>
          <p:nvSpPr>
            <p:cNvPr id="278" name=""/>
            <p:cNvSpPr/>
            <p:nvPr/>
          </p:nvSpPr>
          <p:spPr>
            <a:xfrm>
              <a:off x="4211640" y="5300640"/>
              <a:ext cx="3379680" cy="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84800" y="4643280"/>
              <a:ext cx="1552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printer busy] store(fil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Dynamic Modelling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66960" y="1599840"/>
            <a:ext cx="8177040" cy="41720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466560" indent="0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ynamic model represent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; the sequences of events,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operations that occur within a system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, usually involving the time dimen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4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4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Events, States and Activities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466560" indent="-4665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e Diagrams chart the life-span of an object from creation to destruction and the discrete (finite) states in-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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hing that happens at a point in time. An event has no duration. For example, received messages, time-outs, error excep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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bstraction of the attribute values and links of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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peration that takes time to per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ly associated with a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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peration performed o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e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State Diagram - Notation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684520" y="3710160"/>
            <a:ext cx="4471920" cy="798480"/>
            <a:chOff x="2684520" y="3710160"/>
            <a:chExt cx="4471920" cy="798480"/>
          </a:xfrm>
        </p:grpSpPr>
        <p:sp>
          <p:nvSpPr>
            <p:cNvPr id="50" name=""/>
            <p:cNvSpPr/>
            <p:nvPr/>
          </p:nvSpPr>
          <p:spPr>
            <a:xfrm>
              <a:off x="5892840" y="3740040"/>
              <a:ext cx="1263600" cy="7686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700" spc="-1" strike="noStrike">
                  <a:solidFill>
                    <a:srgbClr val="919191"/>
                  </a:solidFill>
                  <a:latin typeface="Times New Roman"/>
                </a:rPr>
                <a:t>State 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700" spc="-1" strike="noStrike">
                  <a:solidFill>
                    <a:srgbClr val="919191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919191"/>
                  </a:solidFill>
                  <a:latin typeface="Times New Roman"/>
                </a:rPr>
                <a:t>. . 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84520" y="4114800"/>
              <a:ext cx="3201840" cy="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54160" y="3710160"/>
              <a:ext cx="2548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ctr">
              <a:noAutofit/>
            </a:bodyPr>
            <a:p>
              <a:pPr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700" spc="-1" strike="noStrike">
                  <a:solidFill>
                    <a:srgbClr val="919191"/>
                  </a:solidFill>
                  <a:latin typeface="Times New Roman"/>
                </a:rPr>
                <a:t>event [condition] /a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92160" y="1747800"/>
            <a:ext cx="2301840" cy="2024280"/>
            <a:chOff x="992160" y="1747800"/>
            <a:chExt cx="2301840" cy="2024280"/>
          </a:xfrm>
        </p:grpSpPr>
        <p:sp>
          <p:nvSpPr>
            <p:cNvPr id="54" name=""/>
            <p:cNvSpPr/>
            <p:nvPr/>
          </p:nvSpPr>
          <p:spPr>
            <a:xfrm>
              <a:off x="992160" y="1747800"/>
              <a:ext cx="170172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ctr">
              <a:noAutofit/>
            </a:bodyPr>
            <a:p>
              <a:pPr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en-US" sz="1700" spc="-1" strike="noStrike">
                  <a:solidFill>
                    <a:srgbClr val="919191"/>
                  </a:solidFill>
                  <a:latin typeface="Times New Roman"/>
                </a:rPr>
                <a:t>name o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en-US" sz="1700" spc="-1" strike="noStrike">
                  <a:solidFill>
                    <a:srgbClr val="919191"/>
                  </a:solidFill>
                  <a:latin typeface="Times New Roman"/>
                </a:rPr>
                <a:t>event which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en-US" sz="1700" spc="-1" strike="noStrike">
                  <a:solidFill>
                    <a:srgbClr val="919191"/>
                  </a:solidFill>
                  <a:latin typeface="Times New Roman"/>
                </a:rPr>
                <a:t>causes transi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4560" y="2705040"/>
              <a:ext cx="1009440" cy="10670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334120" y="1766880"/>
            <a:ext cx="1958760" cy="1947960"/>
            <a:chOff x="5334120" y="1766880"/>
            <a:chExt cx="1958760" cy="1947960"/>
          </a:xfrm>
        </p:grpSpPr>
        <p:sp>
          <p:nvSpPr>
            <p:cNvPr id="57" name=""/>
            <p:cNvSpPr/>
            <p:nvPr/>
          </p:nvSpPr>
          <p:spPr>
            <a:xfrm>
              <a:off x="5546880" y="1766880"/>
              <a:ext cx="174600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ctr">
              <a:noAutofit/>
            </a:bodyPr>
            <a:p>
              <a:pPr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en-US" sz="1700" spc="-1" strike="noStrike">
                  <a:solidFill>
                    <a:srgbClr val="919191"/>
                  </a:solidFill>
                  <a:latin typeface="Times New Roman"/>
                </a:rPr>
                <a:t>an action that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en-US" sz="1700" spc="-1" strike="noStrike">
                  <a:solidFill>
                    <a:srgbClr val="919191"/>
                  </a:solidFill>
                  <a:latin typeface="Times New Roman"/>
                </a:rPr>
                <a:t>performed when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en-US" sz="1700" spc="-1" strike="noStrike">
                  <a:solidFill>
                    <a:srgbClr val="919191"/>
                  </a:solidFill>
                  <a:latin typeface="Times New Roman"/>
                </a:rPr>
                <a:t>the event occu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34120" y="2724120"/>
              <a:ext cx="761760" cy="9907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973240" y="1900080"/>
            <a:ext cx="2217960" cy="1719360"/>
            <a:chOff x="2973240" y="1900080"/>
            <a:chExt cx="2217960" cy="1719360"/>
          </a:xfrm>
        </p:grpSpPr>
        <p:sp>
          <p:nvSpPr>
            <p:cNvPr id="60" name=""/>
            <p:cNvSpPr/>
            <p:nvPr/>
          </p:nvSpPr>
          <p:spPr>
            <a:xfrm>
              <a:off x="4037040" y="2552760"/>
              <a:ext cx="95400" cy="106668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73240" y="1900080"/>
              <a:ext cx="2217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ctr">
              <a:noAutofit/>
            </a:bodyPr>
            <a:p>
              <a:pPr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en-US" sz="1700" spc="-1" strike="noStrike">
                  <a:solidFill>
                    <a:srgbClr val="919191"/>
                  </a:solidFill>
                  <a:latin typeface="Times New Roman"/>
                </a:rPr>
                <a:t>a pre-condition befor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en-US" sz="1700" spc="-1" strike="noStrike">
                  <a:solidFill>
                    <a:srgbClr val="919191"/>
                  </a:solidFill>
                  <a:latin typeface="Times New Roman"/>
                </a:rPr>
                <a:t>a transition occu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410080" y="3241800"/>
            <a:ext cx="3052800" cy="2703240"/>
            <a:chOff x="5410080" y="3241800"/>
            <a:chExt cx="3052800" cy="2703240"/>
          </a:xfrm>
        </p:grpSpPr>
        <p:grpSp>
          <p:nvGrpSpPr>
            <p:cNvPr id="63" name=""/>
            <p:cNvGrpSpPr/>
            <p:nvPr/>
          </p:nvGrpSpPr>
          <p:grpSpPr>
            <a:xfrm>
              <a:off x="5410080" y="3241800"/>
              <a:ext cx="3052800" cy="2703240"/>
              <a:chOff x="5410080" y="3241800"/>
              <a:chExt cx="3052800" cy="270324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5410080" y="3241800"/>
                <a:ext cx="3052800" cy="2703240"/>
                <a:chOff x="5410080" y="3241800"/>
                <a:chExt cx="3052800" cy="270324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8163000" y="3959280"/>
                  <a:ext cx="299880" cy="312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6240" rIns="6624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282000" y="3241800"/>
                  <a:ext cx="2025000" cy="227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919191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6240" rIns="6624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410080" y="5029200"/>
                  <a:ext cx="1746360" cy="91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6240" rIns="66240" tIns="33120" bIns="33120" anchor="ctr">
                  <a:noAutofit/>
                </a:bodyPr>
                <a:p>
                  <a:pPr algn="r"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0" lang="en-US" sz="1700" spc="-1" strike="noStrike">
                      <a:solidFill>
                        <a:srgbClr val="919191"/>
                      </a:solidFill>
                      <a:latin typeface="Times New Roman"/>
                    </a:rPr>
                    <a:t>Finish State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8236080" y="4044960"/>
                <a:ext cx="139680" cy="139680"/>
              </a:xfrm>
              <a:prstGeom prst="ellipse">
                <a:avLst/>
              </a:prstGeom>
              <a:solidFill>
                <a:srgbClr val="081d58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240" rIns="6624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7157880" y="4129200"/>
              <a:ext cx="986040" cy="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61880" y="2890800"/>
            <a:ext cx="2390760" cy="2900520"/>
            <a:chOff x="461880" y="2890800"/>
            <a:chExt cx="2390760" cy="2900520"/>
          </a:xfrm>
        </p:grpSpPr>
        <p:sp>
          <p:nvSpPr>
            <p:cNvPr id="71" name=""/>
            <p:cNvSpPr/>
            <p:nvPr/>
          </p:nvSpPr>
          <p:spPr>
            <a:xfrm>
              <a:off x="1395360" y="3701880"/>
              <a:ext cx="1263600" cy="7686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47920" y="3770280"/>
              <a:ext cx="12096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500" spc="-1" strike="noStrike">
                  <a:solidFill>
                    <a:srgbClr val="919191"/>
                  </a:solidFill>
                  <a:latin typeface="Times New Roman"/>
                </a:rPr>
                <a:t>State 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en-US" sz="1500" spc="-1" strike="noStrike">
                  <a:solidFill>
                    <a:srgbClr val="919191"/>
                  </a:solidFill>
                  <a:latin typeface="Times New Roman"/>
                </a:rPr>
                <a:t>do/activity 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1880" y="3968640"/>
              <a:ext cx="139680" cy="13968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8040" y="4038480"/>
              <a:ext cx="762120" cy="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2640" y="2890800"/>
              <a:ext cx="1822680" cy="267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919191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17680" y="5424480"/>
              <a:ext cx="1434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ctr">
              <a:noAutofit/>
            </a:bodyPr>
            <a:p>
              <a:pPr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en-US" sz="1700" spc="-1" strike="noStrike">
                  <a:solidFill>
                    <a:srgbClr val="919191"/>
                  </a:solidFill>
                  <a:latin typeface="Times New Roman"/>
                </a:rPr>
                <a:t>Starting poi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Example State Diagram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701800" y="2514600"/>
            <a:ext cx="4429080" cy="768240"/>
            <a:chOff x="2701800" y="2514600"/>
            <a:chExt cx="4429080" cy="768240"/>
          </a:xfrm>
        </p:grpSpPr>
        <p:sp>
          <p:nvSpPr>
            <p:cNvPr id="79" name=""/>
            <p:cNvSpPr/>
            <p:nvPr/>
          </p:nvSpPr>
          <p:spPr>
            <a:xfrm>
              <a:off x="5867280" y="2514600"/>
              <a:ext cx="1263600" cy="76824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en-US" sz="1700" spc="-1" strike="noStrike">
                  <a:solidFill>
                    <a:srgbClr val="919191"/>
                  </a:solidFill>
                  <a:latin typeface="Times New Roman"/>
                </a:rPr>
                <a:t>Pa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01800" y="2919240"/>
              <a:ext cx="3200400" cy="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32840" y="2514600"/>
              <a:ext cx="81360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t">
              <a:spAutoFit/>
            </a:bodyPr>
            <a:p>
              <a:pPr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700" spc="-1" strike="noStrike">
                  <a:solidFill>
                    <a:srgbClr val="919191"/>
                  </a:solidFill>
                  <a:latin typeface="Times New Roman"/>
                </a:rPr>
                <a:t>Payi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79520" y="2220840"/>
            <a:ext cx="2197080" cy="1054080"/>
            <a:chOff x="479520" y="2220840"/>
            <a:chExt cx="2197080" cy="1054080"/>
          </a:xfrm>
        </p:grpSpPr>
        <p:sp>
          <p:nvSpPr>
            <p:cNvPr id="83" name=""/>
            <p:cNvSpPr/>
            <p:nvPr/>
          </p:nvSpPr>
          <p:spPr>
            <a:xfrm>
              <a:off x="1413000" y="2506680"/>
              <a:ext cx="1263600" cy="76824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99920" y="2575080"/>
              <a:ext cx="7387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t">
              <a:sp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en-US" sz="1500" spc="-1" strike="noStrike">
                  <a:solidFill>
                    <a:srgbClr val="919191"/>
                  </a:solidFill>
                  <a:latin typeface="Times New Roman"/>
                </a:rPr>
                <a:t>Unpai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9520" y="2773440"/>
              <a:ext cx="141120" cy="13968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7120" y="2843280"/>
              <a:ext cx="762120" cy="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6960" y="2220840"/>
              <a:ext cx="11854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pPr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en-US" sz="1300" spc="-1" strike="noStrike">
                  <a:solidFill>
                    <a:srgbClr val="919191"/>
                  </a:solidFill>
                  <a:latin typeface="Times New Roman"/>
                </a:rPr>
                <a:t>Invoice creat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7087680" y="2438280"/>
            <a:ext cx="1391040" cy="638280"/>
            <a:chOff x="7087680" y="2438280"/>
            <a:chExt cx="1391040" cy="638280"/>
          </a:xfrm>
        </p:grpSpPr>
        <p:sp>
          <p:nvSpPr>
            <p:cNvPr id="89" name=""/>
            <p:cNvSpPr/>
            <p:nvPr/>
          </p:nvSpPr>
          <p:spPr>
            <a:xfrm>
              <a:off x="8177040" y="2763720"/>
              <a:ext cx="301680" cy="312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51920" y="2849400"/>
              <a:ext cx="139680" cy="14004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75520" y="2933640"/>
              <a:ext cx="982800" cy="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87680" y="2438280"/>
              <a:ext cx="1350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pPr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en-US" sz="1300" spc="-1" strike="noStrike">
                  <a:solidFill>
                    <a:srgbClr val="919191"/>
                  </a:solidFill>
                  <a:latin typeface="Times New Roman"/>
                </a:rPr>
                <a:t>Invoice destroy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Relationship between State Diagram and Class Diagram</a:t>
            </a:r>
            <a:endParaRPr b="0" lang="en-US" sz="2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466560" indent="-466560">
              <a:spcBef>
                <a:spcPts val="499"/>
              </a:spcBef>
              <a:spcAft>
                <a:spcPts val="751"/>
              </a:spcAft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tate diagram relates to ONE class within a class diagram. The received events are often messages that will have originated at one of the other classes with which the class in question has a relationshi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499"/>
              </a:spcBef>
              <a:spcAft>
                <a:spcPts val="751"/>
              </a:spcAft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 are basically received messages and are therefore handled by a receiving class 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499"/>
              </a:spcBef>
              <a:spcAft>
                <a:spcPts val="751"/>
              </a:spcAft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 - happening upon a state transition - are usually class operations that may result in a message being sent to another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499"/>
              </a:spcBef>
              <a:spcAft>
                <a:spcPts val="751"/>
              </a:spcAft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ies - happening within a particular class state - are usually class ope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A State Diagram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292480"/>
            <a:ext cx="8562960" cy="30416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6800" y="2351160"/>
            <a:ext cx="1603440" cy="404640"/>
          </a:xfrm>
          <a:prstGeom prst="rect">
            <a:avLst/>
          </a:prstGeom>
          <a:noFill/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ctr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900" spc="-1" strike="noStrike">
                <a:solidFill>
                  <a:srgbClr val="919191"/>
                </a:solidFill>
                <a:latin typeface="Times New Roman"/>
              </a:rPr>
              <a:t>Alarm Syste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5280" y="3755880"/>
            <a:ext cx="2504880" cy="559080"/>
            <a:chOff x="665280" y="3755880"/>
            <a:chExt cx="2504880" cy="559080"/>
          </a:xfrm>
        </p:grpSpPr>
        <p:sp>
          <p:nvSpPr>
            <p:cNvPr id="99" name=""/>
            <p:cNvSpPr/>
            <p:nvPr/>
          </p:nvSpPr>
          <p:spPr>
            <a:xfrm>
              <a:off x="2039760" y="3755880"/>
              <a:ext cx="1130400" cy="55908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500" spc="-1" strike="noStrike">
                  <a:solidFill>
                    <a:srgbClr val="919191"/>
                  </a:solidFill>
                  <a:latin typeface="Times New Roman"/>
                </a:rPr>
                <a:t>Passiv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5280" y="3965400"/>
              <a:ext cx="90360" cy="113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1240" y="4035600"/>
              <a:ext cx="1290600" cy="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160800" y="3233880"/>
            <a:ext cx="2654280" cy="1081080"/>
            <a:chOff x="3160800" y="3233880"/>
            <a:chExt cx="2654280" cy="1081080"/>
          </a:xfrm>
        </p:grpSpPr>
        <p:sp>
          <p:nvSpPr>
            <p:cNvPr id="103" name=""/>
            <p:cNvSpPr/>
            <p:nvPr/>
          </p:nvSpPr>
          <p:spPr>
            <a:xfrm>
              <a:off x="4683240" y="3233880"/>
              <a:ext cx="1131840" cy="108108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500" spc="-1" strike="noStrike">
                  <a:solidFill>
                    <a:srgbClr val="919191"/>
                  </a:solidFill>
                  <a:latin typeface="Times New Roman"/>
                </a:rPr>
                <a:t>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500" spc="-1" strike="noStrike">
                  <a:solidFill>
                    <a:srgbClr val="919191"/>
                  </a:solidFill>
                  <a:latin typeface="Times New Roman"/>
                </a:rPr>
                <a:t>do/ chec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500" spc="-1" strike="noStrike">
                  <a:solidFill>
                    <a:srgbClr val="919191"/>
                  </a:solidFill>
                  <a:latin typeface="Times New Roman"/>
                </a:rPr>
                <a:t>detecto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78080" y="4060800"/>
              <a:ext cx="1478160" cy="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60800" y="3654360"/>
              <a:ext cx="132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i="1" lang="en-US" sz="1100" spc="-1" strike="noStrike">
                  <a:solidFill>
                    <a:srgbClr val="919191"/>
                  </a:solidFill>
                  <a:latin typeface="Times New Roman"/>
                </a:rPr>
                <a:t>access code typed 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490840" y="4071960"/>
            <a:ext cx="5370480" cy="981000"/>
            <a:chOff x="2490840" y="4071960"/>
            <a:chExt cx="5370480" cy="981000"/>
          </a:xfrm>
        </p:grpSpPr>
        <p:sp>
          <p:nvSpPr>
            <p:cNvPr id="107" name=""/>
            <p:cNvSpPr/>
            <p:nvPr/>
          </p:nvSpPr>
          <p:spPr>
            <a:xfrm flipH="1">
              <a:off x="2490840" y="4741920"/>
              <a:ext cx="5370480" cy="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490840" y="4322880"/>
              <a:ext cx="0" cy="4190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3240" y="4071960"/>
              <a:ext cx="1290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71920" y="4778280"/>
              <a:ext cx="177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i="1" lang="en-US" sz="1100" spc="-1" strike="noStrike">
                  <a:solidFill>
                    <a:srgbClr val="919191"/>
                  </a:solidFill>
                  <a:latin typeface="Times New Roman"/>
                </a:rPr>
                <a:t>correct access code typed 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821200" y="3156120"/>
            <a:ext cx="2845080" cy="1585800"/>
            <a:chOff x="5821200" y="3156120"/>
            <a:chExt cx="2845080" cy="1585800"/>
          </a:xfrm>
        </p:grpSpPr>
        <p:sp>
          <p:nvSpPr>
            <p:cNvPr id="112" name=""/>
            <p:cNvSpPr/>
            <p:nvPr/>
          </p:nvSpPr>
          <p:spPr>
            <a:xfrm>
              <a:off x="7327800" y="3156120"/>
              <a:ext cx="1338480" cy="115884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500" spc="-1" strike="noStrike">
                  <a:solidFill>
                    <a:srgbClr val="919191"/>
                  </a:solidFill>
                  <a:latin typeface="Times New Roman"/>
                </a:rPr>
                <a:t>Detect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500" spc="-1" strike="noStrike">
                  <a:solidFill>
                    <a:srgbClr val="919191"/>
                  </a:solidFill>
                  <a:latin typeface="Times New Roman"/>
                </a:rPr>
                <a:t>do/ ring b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500" spc="-1" strike="noStrike">
                  <a:solidFill>
                    <a:srgbClr val="919191"/>
                  </a:solidFill>
                  <a:latin typeface="Times New Roman"/>
                </a:rPr>
                <a:t>flash ligh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21200" y="4060800"/>
              <a:ext cx="1498680" cy="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61320" y="4322880"/>
              <a:ext cx="0" cy="4190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29200" y="3386160"/>
              <a:ext cx="979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i="1" lang="en-US" sz="1100" spc="-1" strike="noStrike">
                  <a:solidFill>
                    <a:srgbClr val="919191"/>
                  </a:solidFill>
                  <a:latin typeface="Times New Roman"/>
                </a:rPr>
                <a:t>Intruder alert/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i="1" lang="en-US" sz="1100" spc="-1" strike="noStrike">
                  <a:solidFill>
                    <a:srgbClr val="919191"/>
                  </a:solidFill>
                  <a:latin typeface="Times New Roman"/>
                </a:rPr>
                <a:t>  </a:t>
              </a:r>
              <a:r>
                <a:rPr b="0" i="1" lang="en-US" sz="1100" spc="-1" strike="noStrike">
                  <a:solidFill>
                    <a:srgbClr val="919191"/>
                  </a:solidFill>
                  <a:latin typeface="Times New Roman"/>
                </a:rPr>
                <a:t>phone poli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67280" y="4122720"/>
              <a:ext cx="1109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0" lang="en-US" sz="1000" spc="-1" strike="noStrike">
                  <a:solidFill>
                    <a:srgbClr val="919191"/>
                  </a:solidFill>
                  <a:latin typeface="Times New Roman"/>
                </a:rPr>
                <a:t>[30 seconds passed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Another Example - Digital Watch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466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mple digital watch has a display and two buttons to set it, th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ton and the B button. The watch has two modes of opera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time and set ti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display time mode, hours and minutes are display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t time mode has two sub modes: set hours and set minu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 button is used to select modes. Each time it is pressed,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ces through the modes: display, set hours, set minutes,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etc. Within the sub modes, pressing B will advance the hours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utes each time it is pressed. Buttons must be released before th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nother even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eate a state diagram for the wa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Possible solution - State Diagram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569960"/>
            <a:ext cx="1013472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6T16:50:23Z</dcterms:created>
  <dc:creator>dgreer</dc:creator>
  <dc:description/>
  <cp:keywords>Software Engineering</cp:keywords>
  <dc:language>en-US</dc:language>
  <cp:lastModifiedBy>School of Computer Science QU</cp:lastModifiedBy>
  <cp:lastPrinted>2001-03-23T14:50:44Z</cp:lastPrinted>
  <dcterms:modified xsi:type="dcterms:W3CDTF">2001-11-26T12:40:45Z</dcterms:modified>
  <cp:revision>14</cp:revision>
  <dc:subject>Software Engineering</dc:subject>
  <dc:title>Software Engineering</dc:title>
</cp:coreProperties>
</file>